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89D0-4368-49AB-96F3-FC078797B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5233-575A-46D8-9EB2-71E05E61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0E85-7A3F-408E-BC40-FA1BED25E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E7BF-0FA4-41B9-A791-BE0A0792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5D64-C63A-444D-8813-4145BE246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5D8A-BB8A-4958-8846-4CFB79EE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058E-0459-42DB-813A-3A406649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C1C5-5DFB-4655-BAC4-036BA549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8C97-8D07-4F29-A48F-23AA6647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5243-17A5-4B8E-A603-AD39E9D7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C0B8-88AB-4295-B215-DB2AA16D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C122-AFE4-4783-A775-F7ED83F7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41AD-7E8D-415B-9F4D-651FE117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2C79-D855-48B4-99A8-A42BBA82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03D9-E191-4632-B42F-6264BC6B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B874-C7A2-4FB5-8120-9A6547BBE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2D08-777E-4AF6-BE2A-85B94EC56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8F6D-BF97-47AC-904E-389E7631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16C1-B3D5-4999-888D-B8100EB2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F2B3-326B-4263-BC12-078818B5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1465-CCC5-4DC7-B3EA-31B8AE29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CED5-E124-4A11-83A6-21671D92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6666-9F40-462D-85D0-AABF4D66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C846-4855-46F3-960B-BEE20A68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78A3-2E5A-47FC-80C1-4025F7A7824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ed7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ED56-07FA-4440-9005-0C7CC97B7FA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WCPFC institutional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ther matters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0 members plus 4 participating territori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 Agreements involving FSM national Government, Pohnpei State and the Commission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eadquarters Agreement (privileges and immunities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ccupancy Agreement (tenure, use of buildings, etc.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xcellent support from FSM - working to conclude both before Comm-2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" name="commission_logo" descr=""/>
          <p:cNvPicPr/>
          <p:nvPr/>
        </p:nvPicPr>
        <p:blipFill>
          <a:blip r:embed="rId1"/>
          <a:stretch/>
        </p:blipFill>
        <p:spPr>
          <a:xfrm>
            <a:off x="6324480" y="550548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terim offi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taff Regulations drafted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oR circulated to members – advertising next week?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Banking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suran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udit arrangement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unications 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– 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cluding websit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ubsidiary bodie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8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5 accounts – 2 FSM bank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conciliation and transfers underway from FF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urrent status – SC commitment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Voluntary contributions - including in-kind from the Chairman’s Offic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2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lations with other organization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rticle 22 – unfinished busines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ATTC, ISC, IOTC, CCAMLR, FAO, FFA, SPC, CCSBT, ICCAT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Miscellaneous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issioner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unds!  Assessed contribution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st July fishing vessel reports [Art. 24 (5) – Annex IV]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1:55:28Z</dcterms:created>
  <dc:creator>Andrew Wright</dc:creator>
  <dc:description/>
  <dc:language>en-US</dc:language>
  <cp:lastModifiedBy>水産庁</cp:lastModifiedBy>
  <dcterms:modified xsi:type="dcterms:W3CDTF">2005-09-08T12:49:44Z</dcterms:modified>
  <cp:revision>8</cp:revision>
  <dc:subject/>
  <dc:title>WCPFC institutional matters</dc:title>
</cp:coreProperties>
</file>